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842BC2-0EEB-42AD-A721-67B12FD34E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0EFDDF-9B68-428E-B4F9-A39EA2EF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DB26FC-1B56-4756-B13B-C54657C60A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BE0754-7E02-4387-AE44-814DD0444A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080720" y="4533840"/>
            <a:ext cx="472284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PH comment:  completely changed format of this graph so that the filled white box behind the graph is gone; title has been moved to correct placement and changed to be consistent with slide master form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7A3640-43E2-4099-B7F4-06709BC0CA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BF99FD-23AC-4084-A628-9E0BA008BA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D332FD-D0F9-43D0-829F-243E67ECB4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26E54A-5237-45B3-AACE-DCDA4978C4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31D867-048C-4250-9870-4021555AEC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7823CF-D88A-4681-B597-F4FB04DEA1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7B6AA4-8F09-4AA8-A9CB-501AE2A443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92A3B9-D33E-45FC-B0CB-EE9F1782B3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D9A7CB-F02B-4EA2-A052-EDFD14BE55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E10349-8436-4448-81F8-538A021B7D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2011DE5-20B3-496A-84CB-DA1DB5F774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26EFBD-4B3F-4E74-B7CA-E51828003B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D1AC91-B1E2-461F-A758-FAB575F1EF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64E8C7-DB60-4936-B335-C4848AA0D1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733B5A-976D-48D8-B874-E79B612717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6587D7-9D0D-4F37-AC6E-E2FB28E586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68CF5F-6966-442D-8C02-413A951F64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75448A-4587-4C1C-8777-0B7092C29A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15ED98-D03C-4AC2-84EF-AA8EBB3389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453B46-CFFE-4F16-BD12-BCE9EFF83B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7E56C6-F58B-4C0C-AB64-CA0F97843A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223A52-8B35-42EB-BE28-8400E048A5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05232F-4CE1-4467-BF83-83C8AD0141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799810-FB48-4388-A8F7-28F911C967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24BE79-5CEB-4FD9-8385-C30F095A81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6C9A7B-4810-4352-9CEA-D53F2FD6A8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D9452B-B18D-4E57-871E-92C2215DB6E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AD8E37-BFE7-4742-BBF7-D1A8746373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13081A-4A8F-4701-8092-3057E882E2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D24C45-DA67-440B-B798-BF1BDBECEF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3DD02B-709C-466F-9562-A5844151A9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412486-7ADA-4DC3-B7B7-902EAFCEF9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1E2960-8229-4C33-A243-927FC7DA47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E9594C-C338-459E-B743-27B494B13E4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416FCC-0B9A-4BE7-9692-0A041C4DE6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77840A-EC47-4507-8837-AEE17AC76E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507D30-DAB7-469D-A2B8-14277CFA99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47240" y="4514760"/>
            <a:ext cx="4722840" cy="3546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ts comment: validate a program’s functionality and proper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DADDC0-3DC7-4071-86B4-F008613A1E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079280" y="4529160"/>
            <a:ext cx="461772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iplined processes use reviews and inspections to clear the entire “mine field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examples of why the boundary conditions are the most importa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traffic control landing all planes on 9/11/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clear Regulatory Commission – everything goes wrong at the same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eme cases are the one you run into and need the system to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6F3F3B-F9C1-4D84-950A-B593B7B3FC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DABF48-BC80-4F22-A98C-D729437FD3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2960" y="4328640"/>
            <a:ext cx="50320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866-8252-4475-8210-3A1583A1EB5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713F-A42D-49EC-BC29-74DCB043AF2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954-8560-4A09-8AE1-0367C92331F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FC38-1D2A-4D20-8094-C9E1032C8D3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145-7AEC-4172-9B6F-C7ED77496D5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884A-F7BC-447C-A50E-45D74CEED58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E8DD-98A2-4B4C-A9BD-B035B40B95A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BB7-F475-40BE-BD99-408AE022971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425-287B-4DBC-9EA0-9FCE1444C5A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4AF7-D1FA-400F-9226-B66A36D3AB2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EC49-7B0E-4CE7-B8A0-2682D1BC001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22EE-CA4C-4691-A887-794B8D44A42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A07-76D8-473F-A505-3946453ED6E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20B1-8E83-4863-8B37-754443999E3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661-43D7-46BA-BC54-A4D3A511913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B10-0EA6-4E49-AE77-4913D327C95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Software Quality - </a:t>
            </a:r>
            <a:fld id="{D0FF9B28-A8ED-4A46-B891-3FE61059F2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Software Qual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Method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96760" y="1645920"/>
            <a:ext cx="77248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ways to find and fix defects are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and system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you will likely have to remove lots of defects, you should use the most effici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915480" y="6280200"/>
            <a:ext cx="132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urce: Xer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88920" y="898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73" descr="s11"/>
          <p:cNvPicPr/>
          <p:nvPr/>
        </p:nvPicPr>
        <p:blipFill>
          <a:blip r:embed="rId1"/>
          <a:stretch/>
        </p:blipFill>
        <p:spPr>
          <a:xfrm>
            <a:off x="1062000" y="1662120"/>
            <a:ext cx="699156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Method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91720" y="1649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personal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rivately review your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objective is to find and fix defects befor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s are most effective when they are structured and measu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reviews for requirements, designs, code, and everything else that you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ontinue to use inspections, compiling, and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Rates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87400" y="1650960"/>
            <a:ext cx="7685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at the personal level, it is more efficient to find defects in reviews than in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 finds only about 2 to 4 defec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 test finds about 50% of the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reviews find about 6 to 10 defects per h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d reviewers can find 70% or more of the defects before compiling or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Rat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06" descr="s14"/>
          <p:cNvPicPr/>
          <p:nvPr/>
        </p:nvPicPr>
        <p:blipFill>
          <a:blip r:embed="rId1"/>
          <a:stretch/>
        </p:blipFill>
        <p:spPr>
          <a:xfrm>
            <a:off x="887400" y="1797120"/>
            <a:ext cx="764712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7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Reviews are Effic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82720" y="1674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esting, you mu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ct unusu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ure out what the test program was 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where the problem is in the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gure out which defect could cause su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an take a lot of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reviews and inspections, 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your own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ere you are when you find a de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at the program should do, but did no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why this is a de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in a better position to devise a correct f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8704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 reviews follow a defined process with guidelines, checklists, and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review goal is to find every defect before the first compile or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ddress this goal, you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before compiling or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esign completeness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improve your review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 customized personal check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8416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de Review Check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91720" y="165096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reviews will be most effective when your personal checklist is customized to your own defect exper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your own data to select the checklist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and analyze data on the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just the checklist with experi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 reviews on a printed listing, not on the scr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ecklist defines the review steps and the suggested order for performing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for one checklist item at a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off each item as you complete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7912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Review Princip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91720" y="1650960"/>
            <a:ext cx="77504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ddition to reviewing code, your should also review your desig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quires that 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designs that can be revie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an explicit review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the design in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 that the logic correctly implements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84160" y="7380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able Desig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10800" y="1650600"/>
            <a:ext cx="7559640" cy="4189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iewable design has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con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 and clear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uggests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’s purpose and function be explicitly st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have criteria for design complet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is structured in logical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design topics are covered in the next two le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66520" y="836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9064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qual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conomics of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consider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604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 Review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0612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designs that can be reviewed in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ggested review stages are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gainst the requirements to ensure that each required function is addressed by th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overall program structure and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logical constructs for correct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robustness, safety, an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function, method, and procedure calls to ensure prope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560" indent="-322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special variables, parameters, types, and files for prope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8884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Meas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efficient reviews, you must hav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has many useful quality and process-control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unit of s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injected and removed per ho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le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quality (CO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Yield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90280" y="1645920"/>
            <a:ext cx="76597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ase yield measures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centage of the defects in the product that were found by that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removal effectiveness of that process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can be used to measure the effectiveness of design and code reviews, inspections, compiling, and tes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(for a phase)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22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efects found) / (defects found + not f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-Removal Fil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1" descr="s23"/>
          <p:cNvPicPr/>
          <p:nvPr/>
        </p:nvPicPr>
        <p:blipFill>
          <a:blip r:embed="rId1"/>
          <a:stretch/>
        </p:blipFill>
        <p:spPr>
          <a:xfrm>
            <a:off x="2033640" y="1546200"/>
            <a:ext cx="507672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Yield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90280" y="165564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yield is the percentage of defects injected before a phase that were found before that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yield before system test is the system test process yie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used without a phase name, process yield refers to the phase yield before compile and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7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12960" y="1641240"/>
            <a:ext cx="78120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can be estimated but not precisely calculated until all defects have been found through test and product us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ield measures are most useful when the developers and testers record all of the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using process-control measures, you are more likely to do high-yield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79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ential Control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5840" y="1645920"/>
            <a:ext cx="74599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process control measures must be available during the process.  Examp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units reviewe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per siz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no control parameter directly correlates with phase yield, review rate is the most useful control parame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rate is the parameter used in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884160" y="1711440"/>
            <a:ext cx="7367760" cy="46814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10" descr="s28"/>
          <p:cNvPicPr/>
          <p:nvPr/>
        </p:nvPicPr>
        <p:blipFill>
          <a:blip r:embed="rId1"/>
          <a:stretch/>
        </p:blipFill>
        <p:spPr>
          <a:xfrm>
            <a:off x="316080" y="1459080"/>
            <a:ext cx="851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7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 versus Review Rat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920520" y="1649160"/>
            <a:ext cx="7661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ere is considerable variation, higher rates generally give lower-yield revie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uggests the following upper limits for review r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(using the LOC measure): 200 LOC/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s: 4 pages/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measures: develop from your personal review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953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Quality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finition: meeting the users’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not w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 functional needs are often unknow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hierarchy of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the requir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performance requir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usable and conven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economical and tim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dependable and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Removal Leverage (DR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01440" y="1650960"/>
            <a:ext cx="7777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measures the relative effectiveness of a process step  at removing def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is the number of defects removed per hour by a process step relative to a bas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ual base is unit test (U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(X/UT) is the DRL for phase X with respect to unit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 is calculated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L(X/UT) = (defects/hour phase X) / (defects/hour unit t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07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Q measure process quality in a way that is meaningful to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Q elements are failure, appraisal, and prevention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cost is the time spent in repair and rework plus the cost of any scrap.  In PSP, it is compile and tes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aisal costs are the costs of inspecting for defects.  In PSP, appraisal cost is design and code review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SP, inspections are included in appraisal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-prevention cost is the cost of identifying and  resolving defect cau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generally is done by a team or a group and usually is led by a support staff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defect-prevention cost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pecification and desig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analysis and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recor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Quality (COQ)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954000" y="1660320"/>
            <a:ext cx="7345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useful COQ measure is the ratio of appraisal to failure costs (A/FR).  This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= (appraisal COQ) / (failure CO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 measures are sensitive to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 exercises, the A/FR target is 2.0 or gre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/FR is associated with low numbers of test defects and high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should set A/FR targets based on estimated defect-free test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7444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01800" y="1658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before or after comp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lationship of reviews and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ing Before Comp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20880" y="1665000"/>
            <a:ext cx="71690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r development environment has a compile step, it is more efficient to do code reviews before compi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sons for this are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ime is about the same before or after compi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eviews are done before compiling, compile time is substantially r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saved in compiling and testing is often more than the review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find syntax/typo defects that the compiler would mi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reviews of compiled code are less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is equally effective before or after a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s with many compile defects often have many test de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765000" y="1438200"/>
            <a:ext cx="76615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55"/>
          <p:cNvGrpSpPr/>
          <p:nvPr/>
        </p:nvGrpSpPr>
        <p:grpSpPr>
          <a:xfrm>
            <a:off x="1136520" y="2292480"/>
            <a:ext cx="6912360" cy="3705480"/>
            <a:chOff x="1136520" y="2292480"/>
            <a:chExt cx="6912360" cy="3705480"/>
          </a:xfrm>
        </p:grpSpPr>
        <p:sp>
          <p:nvSpPr>
            <p:cNvPr id="508" name="Rectangle 4"/>
            <p:cNvSpPr/>
            <p:nvPr/>
          </p:nvSpPr>
          <p:spPr>
            <a:xfrm>
              <a:off x="2085840" y="2405160"/>
              <a:ext cx="587088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5"/>
            <p:cNvSpPr/>
            <p:nvPr/>
          </p:nvSpPr>
          <p:spPr>
            <a:xfrm>
              <a:off x="2085840" y="2405160"/>
              <a:ext cx="1800" cy="287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>
              <a:off x="2004840" y="5283360"/>
              <a:ext cx="16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7"/>
            <p:cNvSpPr/>
            <p:nvPr/>
          </p:nvSpPr>
          <p:spPr>
            <a:xfrm>
              <a:off x="2004840" y="499572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8"/>
            <p:cNvSpPr/>
            <p:nvPr/>
          </p:nvSpPr>
          <p:spPr>
            <a:xfrm>
              <a:off x="2004840" y="47070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2004840" y="4421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10"/>
            <p:cNvSpPr/>
            <p:nvPr/>
          </p:nvSpPr>
          <p:spPr>
            <a:xfrm>
              <a:off x="2004840" y="413244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11"/>
            <p:cNvSpPr/>
            <p:nvPr/>
          </p:nvSpPr>
          <p:spPr>
            <a:xfrm>
              <a:off x="2004840" y="384480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>
              <a:off x="2004840" y="355608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3"/>
            <p:cNvSpPr/>
            <p:nvPr/>
          </p:nvSpPr>
          <p:spPr>
            <a:xfrm>
              <a:off x="2004840" y="32688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2004840" y="297972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2004840" y="269388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2004840" y="2405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>
              <a:off x="2085840" y="5283360"/>
              <a:ext cx="587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2085840" y="52243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326088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V="1">
              <a:off x="443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V="1">
              <a:off x="560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V="1">
              <a:off x="6781680" y="5224320"/>
              <a:ext cx="32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V="1">
              <a:off x="795672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4"/>
            <p:cNvSpPr/>
            <p:nvPr/>
          </p:nvSpPr>
          <p:spPr>
            <a:xfrm>
              <a:off x="2957400" y="4659480"/>
              <a:ext cx="1368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5"/>
            <p:cNvSpPr/>
            <p:nvPr/>
          </p:nvSpPr>
          <p:spPr>
            <a:xfrm>
              <a:off x="2368440" y="4948200"/>
              <a:ext cx="1350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26"/>
            <p:cNvSpPr/>
            <p:nvPr/>
          </p:nvSpPr>
          <p:spPr>
            <a:xfrm>
              <a:off x="6832440" y="4659480"/>
              <a:ext cx="1350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7"/>
            <p:cNvSpPr/>
            <p:nvPr/>
          </p:nvSpPr>
          <p:spPr>
            <a:xfrm>
              <a:off x="295740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8"/>
            <p:cNvSpPr/>
            <p:nvPr/>
          </p:nvSpPr>
          <p:spPr>
            <a:xfrm>
              <a:off x="29574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29"/>
            <p:cNvSpPr/>
            <p:nvPr/>
          </p:nvSpPr>
          <p:spPr>
            <a:xfrm>
              <a:off x="3308400" y="3795840"/>
              <a:ext cx="13644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30"/>
            <p:cNvSpPr/>
            <p:nvPr/>
          </p:nvSpPr>
          <p:spPr>
            <a:xfrm>
              <a:off x="272088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1"/>
            <p:cNvSpPr/>
            <p:nvPr/>
          </p:nvSpPr>
          <p:spPr>
            <a:xfrm>
              <a:off x="2252520" y="5234040"/>
              <a:ext cx="1350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2720880" y="437184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20160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5"/>
            <p:cNvSpPr/>
            <p:nvPr/>
          </p:nvSpPr>
          <p:spPr>
            <a:xfrm>
              <a:off x="1736640" y="51721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6"/>
            <p:cNvSpPr/>
            <p:nvPr/>
          </p:nvSpPr>
          <p:spPr>
            <a:xfrm>
              <a:off x="1736640" y="488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7"/>
            <p:cNvSpPr/>
            <p:nvPr/>
          </p:nvSpPr>
          <p:spPr>
            <a:xfrm>
              <a:off x="1736640" y="4595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38"/>
            <p:cNvSpPr/>
            <p:nvPr/>
          </p:nvSpPr>
          <p:spPr>
            <a:xfrm>
              <a:off x="1736640" y="4309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9"/>
            <p:cNvSpPr/>
            <p:nvPr/>
          </p:nvSpPr>
          <p:spPr>
            <a:xfrm>
              <a:off x="1736640" y="402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40"/>
            <p:cNvSpPr/>
            <p:nvPr/>
          </p:nvSpPr>
          <p:spPr>
            <a:xfrm>
              <a:off x="1736640" y="3733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41"/>
            <p:cNvSpPr/>
            <p:nvPr/>
          </p:nvSpPr>
          <p:spPr>
            <a:xfrm>
              <a:off x="1736640" y="344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42"/>
            <p:cNvSpPr/>
            <p:nvPr/>
          </p:nvSpPr>
          <p:spPr>
            <a:xfrm>
              <a:off x="1736640" y="3159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43"/>
            <p:cNvSpPr/>
            <p:nvPr/>
          </p:nvSpPr>
          <p:spPr>
            <a:xfrm>
              <a:off x="1736640" y="28702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4"/>
            <p:cNvSpPr/>
            <p:nvPr/>
          </p:nvSpPr>
          <p:spPr>
            <a:xfrm>
              <a:off x="1736640" y="258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5"/>
            <p:cNvSpPr/>
            <p:nvPr/>
          </p:nvSpPr>
          <p:spPr>
            <a:xfrm>
              <a:off x="1589040" y="229248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6"/>
            <p:cNvSpPr/>
            <p:nvPr/>
          </p:nvSpPr>
          <p:spPr>
            <a:xfrm>
              <a:off x="2011320" y="54482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47"/>
            <p:cNvSpPr/>
            <p:nvPr/>
          </p:nvSpPr>
          <p:spPr>
            <a:xfrm>
              <a:off x="31129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8"/>
            <p:cNvSpPr/>
            <p:nvPr/>
          </p:nvSpPr>
          <p:spPr>
            <a:xfrm>
              <a:off x="428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49"/>
            <p:cNvSpPr/>
            <p:nvPr/>
          </p:nvSpPr>
          <p:spPr>
            <a:xfrm>
              <a:off x="545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0"/>
            <p:cNvSpPr/>
            <p:nvPr/>
          </p:nvSpPr>
          <p:spPr>
            <a:xfrm>
              <a:off x="663264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1"/>
            <p:cNvSpPr/>
            <p:nvPr/>
          </p:nvSpPr>
          <p:spPr>
            <a:xfrm>
              <a:off x="78073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2"/>
            <p:cNvSpPr/>
            <p:nvPr/>
          </p:nvSpPr>
          <p:spPr>
            <a:xfrm>
              <a:off x="3974400" y="577224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53"/>
            <p:cNvSpPr/>
            <p:nvPr/>
          </p:nvSpPr>
          <p:spPr>
            <a:xfrm rot="16200000">
              <a:off x="605880" y="36558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 vs. Test Defects - Student 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836640" y="1495440"/>
            <a:ext cx="74185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52"/>
          <p:cNvGrpSpPr/>
          <p:nvPr/>
        </p:nvGrpSpPr>
        <p:grpSpPr>
          <a:xfrm>
            <a:off x="1197000" y="2360520"/>
            <a:ext cx="6699600" cy="3742200"/>
            <a:chOff x="1197000" y="2360520"/>
            <a:chExt cx="6699600" cy="3742200"/>
          </a:xfrm>
        </p:grpSpPr>
        <p:sp>
          <p:nvSpPr>
            <p:cNvPr id="560" name="Line 4"/>
            <p:cNvSpPr/>
            <p:nvPr/>
          </p:nvSpPr>
          <p:spPr>
            <a:xfrm>
              <a:off x="2114640" y="2473200"/>
              <a:ext cx="1440" cy="290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5"/>
            <p:cNvSpPr/>
            <p:nvPr/>
          </p:nvSpPr>
          <p:spPr>
            <a:xfrm>
              <a:off x="2036880" y="538308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6"/>
            <p:cNvSpPr/>
            <p:nvPr/>
          </p:nvSpPr>
          <p:spPr>
            <a:xfrm>
              <a:off x="2036880" y="509256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7"/>
            <p:cNvSpPr/>
            <p:nvPr/>
          </p:nvSpPr>
          <p:spPr>
            <a:xfrm>
              <a:off x="2036880" y="480060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8"/>
            <p:cNvSpPr/>
            <p:nvPr/>
          </p:nvSpPr>
          <p:spPr>
            <a:xfrm>
              <a:off x="2036880" y="45100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9"/>
            <p:cNvSpPr/>
            <p:nvPr/>
          </p:nvSpPr>
          <p:spPr>
            <a:xfrm>
              <a:off x="2036880" y="42181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0"/>
            <p:cNvSpPr/>
            <p:nvPr/>
          </p:nvSpPr>
          <p:spPr>
            <a:xfrm>
              <a:off x="2036880" y="3929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1"/>
            <p:cNvSpPr/>
            <p:nvPr/>
          </p:nvSpPr>
          <p:spPr>
            <a:xfrm>
              <a:off x="2036880" y="36385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2"/>
            <p:cNvSpPr/>
            <p:nvPr/>
          </p:nvSpPr>
          <p:spPr>
            <a:xfrm>
              <a:off x="2036880" y="33465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3"/>
            <p:cNvSpPr/>
            <p:nvPr/>
          </p:nvSpPr>
          <p:spPr>
            <a:xfrm>
              <a:off x="2036880" y="3056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4"/>
            <p:cNvSpPr/>
            <p:nvPr/>
          </p:nvSpPr>
          <p:spPr>
            <a:xfrm>
              <a:off x="2036880" y="27622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5"/>
            <p:cNvSpPr/>
            <p:nvPr/>
          </p:nvSpPr>
          <p:spPr>
            <a:xfrm>
              <a:off x="2036880" y="247320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6"/>
            <p:cNvSpPr/>
            <p:nvPr/>
          </p:nvSpPr>
          <p:spPr>
            <a:xfrm>
              <a:off x="2114640" y="5383080"/>
              <a:ext cx="568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7"/>
            <p:cNvSpPr/>
            <p:nvPr/>
          </p:nvSpPr>
          <p:spPr>
            <a:xfrm flipV="1">
              <a:off x="211464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8"/>
            <p:cNvSpPr/>
            <p:nvPr/>
          </p:nvSpPr>
          <p:spPr>
            <a:xfrm flipV="1">
              <a:off x="353700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9"/>
            <p:cNvSpPr/>
            <p:nvPr/>
          </p:nvSpPr>
          <p:spPr>
            <a:xfrm flipV="1">
              <a:off x="495792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0"/>
            <p:cNvSpPr/>
            <p:nvPr/>
          </p:nvSpPr>
          <p:spPr>
            <a:xfrm flipV="1">
              <a:off x="637848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1"/>
            <p:cNvSpPr/>
            <p:nvPr/>
          </p:nvSpPr>
          <p:spPr>
            <a:xfrm flipV="1">
              <a:off x="780084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2"/>
            <p:cNvSpPr/>
            <p:nvPr/>
          </p:nvSpPr>
          <p:spPr>
            <a:xfrm>
              <a:off x="659592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3"/>
            <p:cNvSpPr/>
            <p:nvPr/>
          </p:nvSpPr>
          <p:spPr>
            <a:xfrm>
              <a:off x="2048040" y="4751280"/>
              <a:ext cx="131760" cy="986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4"/>
            <p:cNvSpPr/>
            <p:nvPr/>
          </p:nvSpPr>
          <p:spPr>
            <a:xfrm>
              <a:off x="517536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25"/>
            <p:cNvSpPr/>
            <p:nvPr/>
          </p:nvSpPr>
          <p:spPr>
            <a:xfrm>
              <a:off x="460836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26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27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28"/>
            <p:cNvSpPr/>
            <p:nvPr/>
          </p:nvSpPr>
          <p:spPr>
            <a:xfrm>
              <a:off x="290340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29"/>
            <p:cNvSpPr/>
            <p:nvPr/>
          </p:nvSpPr>
          <p:spPr>
            <a:xfrm>
              <a:off x="233208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30"/>
            <p:cNvSpPr/>
            <p:nvPr/>
          </p:nvSpPr>
          <p:spPr>
            <a:xfrm>
              <a:off x="3470400" y="53341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31"/>
            <p:cNvSpPr/>
            <p:nvPr/>
          </p:nvSpPr>
          <p:spPr>
            <a:xfrm>
              <a:off x="261612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33"/>
            <p:cNvSpPr/>
            <p:nvPr/>
          </p:nvSpPr>
          <p:spPr>
            <a:xfrm>
              <a:off x="1778040" y="52704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4"/>
            <p:cNvSpPr/>
            <p:nvPr/>
          </p:nvSpPr>
          <p:spPr>
            <a:xfrm>
              <a:off x="1778040" y="49816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5"/>
            <p:cNvSpPr/>
            <p:nvPr/>
          </p:nvSpPr>
          <p:spPr>
            <a:xfrm>
              <a:off x="1778040" y="4689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6"/>
            <p:cNvSpPr/>
            <p:nvPr/>
          </p:nvSpPr>
          <p:spPr>
            <a:xfrm>
              <a:off x="1778040" y="4398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37"/>
            <p:cNvSpPr/>
            <p:nvPr/>
          </p:nvSpPr>
          <p:spPr>
            <a:xfrm>
              <a:off x="1778040" y="4106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38"/>
            <p:cNvSpPr/>
            <p:nvPr/>
          </p:nvSpPr>
          <p:spPr>
            <a:xfrm>
              <a:off x="1778040" y="3814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39"/>
            <p:cNvSpPr/>
            <p:nvPr/>
          </p:nvSpPr>
          <p:spPr>
            <a:xfrm>
              <a:off x="1778040" y="3525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0"/>
            <p:cNvSpPr/>
            <p:nvPr/>
          </p:nvSpPr>
          <p:spPr>
            <a:xfrm>
              <a:off x="1778040" y="3233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1"/>
            <p:cNvSpPr/>
            <p:nvPr/>
          </p:nvSpPr>
          <p:spPr>
            <a:xfrm>
              <a:off x="1778040" y="2943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2"/>
            <p:cNvSpPr/>
            <p:nvPr/>
          </p:nvSpPr>
          <p:spPr>
            <a:xfrm>
              <a:off x="1778040" y="26510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3"/>
            <p:cNvSpPr/>
            <p:nvPr/>
          </p:nvSpPr>
          <p:spPr>
            <a:xfrm>
              <a:off x="1635120" y="23605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4"/>
            <p:cNvSpPr/>
            <p:nvPr/>
          </p:nvSpPr>
          <p:spPr>
            <a:xfrm>
              <a:off x="204300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5"/>
            <p:cNvSpPr/>
            <p:nvPr/>
          </p:nvSpPr>
          <p:spPr>
            <a:xfrm>
              <a:off x="346392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6"/>
            <p:cNvSpPr/>
            <p:nvPr/>
          </p:nvSpPr>
          <p:spPr>
            <a:xfrm>
              <a:off x="481320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7"/>
            <p:cNvSpPr/>
            <p:nvPr/>
          </p:nvSpPr>
          <p:spPr>
            <a:xfrm>
              <a:off x="623412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8"/>
            <p:cNvSpPr/>
            <p:nvPr/>
          </p:nvSpPr>
          <p:spPr>
            <a:xfrm>
              <a:off x="765504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49"/>
            <p:cNvSpPr/>
            <p:nvPr/>
          </p:nvSpPr>
          <p:spPr>
            <a:xfrm>
              <a:off x="3944160" y="587700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0"/>
            <p:cNvSpPr/>
            <p:nvPr/>
          </p:nvSpPr>
          <p:spPr>
            <a:xfrm rot="16200000">
              <a:off x="666360" y="37476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 vs. Test Defects - Student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vs. Compile Defects/KLO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1" descr="s38"/>
          <p:cNvPicPr/>
          <p:nvPr/>
        </p:nvPicPr>
        <p:blipFill>
          <a:blip r:embed="rId1"/>
          <a:stretch/>
        </p:blipFill>
        <p:spPr>
          <a:xfrm>
            <a:off x="345960" y="1527120"/>
            <a:ext cx="84502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s and Inspec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01800" y="1645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focus of inspections should be to find problems that you have mi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rograms have many simple defects, inspectors are distracted and often miss more important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the cod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quality product for the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s respect for the inspectors’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higher-quality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higher-quality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Quality Focu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9388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software mu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 quickly and eas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consist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handle normal and abnormal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do destructive or unexpected th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essentially bug-f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are not important to users, as long as they do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 inconven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time or mo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3920" indent="-156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e loss of confidence in the program’s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94960" y="1650960"/>
            <a:ext cx="7612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is important beca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lways expensive to find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efects can be prevented, you can avoid the costs of finding and fix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analysis costs are incurred once, but the savings apply to every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prevention should follow an orderly strategy and a defined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, defect prevention actions include gathering defect data, improving design methods, and prototyp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Strateg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1296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priorities for the defect types that are 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ly f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ubleso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ily preven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-prevention process has the following ste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an established schedu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one or two defect types for initial a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the effectiveness of defect preven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ments and contin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 Prevention Strateg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06120" y="1641240"/>
            <a:ext cx="7723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setting initial priorities, consider the defect types found most frequently in integration and system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PSP data to pick one or two defect types for initial 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just try harder; establish explicit prevention a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te these actions into your process scripts, checklists, and f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91296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product quality and accelerate development work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reviews and inspections to remove defects befor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esting to check product quality, not to remove volumes of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code revi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he quality of you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developmen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o effective reviews, you 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review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disciplined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7080" indent="-15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and improve your review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7120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Quality Focu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96400" y="1650960"/>
            <a:ext cx="7610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ect content of software products must be managed before more important quality issues can be addres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defect content is an essential prerequisite to a quality softwar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low defect content can best be achieved where the defects are injected, engineers sh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their own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causes of their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prevent those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conomics of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is the only modern technology that relies on testing to manage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common quality practices, software groups typ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 50+% of the schedule in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ote more than half their resources to fixing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predict when they will fin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 poor-quality and over-cost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nage cost and schedule, you must manage qual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get a quality product out of test, you must put a quality product into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Alone is Ineff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6639120" y="2832120"/>
            <a:ext cx="25041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and se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= t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ha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afe and insec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= un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sha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5" descr="s7"/>
          <p:cNvPicPr/>
          <p:nvPr/>
        </p:nvPicPr>
        <p:blipFill>
          <a:blip r:embed="rId1"/>
          <a:stretch/>
        </p:blipFill>
        <p:spPr>
          <a:xfrm>
            <a:off x="426960" y="1765440"/>
            <a:ext cx="6037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762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ing Defects i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080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erforming a task thousands of times, economics would suggest that you use the most efficient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50,000 LOC system with traditional development methods wou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25+ defects/KLOC at test entry - 1250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12,500+ programmer hours to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late and over bud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typical rate of 10+ hours per defect, this is 6 programmer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and Produ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886040" y="5481720"/>
            <a:ext cx="5856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d quality = 60% increased team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3" descr="s9"/>
          <p:cNvPicPr/>
          <p:nvPr/>
        </p:nvPicPr>
        <p:blipFill>
          <a:blip r:embed="rId1"/>
          <a:stretch/>
        </p:blipFill>
        <p:spPr>
          <a:xfrm>
            <a:off x="789120" y="1743120"/>
            <a:ext cx="7565760" cy="337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1Z</dcterms:modified>
  <cp:revision>157</cp:revision>
  <dc:subject/>
  <dc:title>No Slide Title</dc:title>
</cp:coreProperties>
</file>